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BC2-BF68-4233-B666-3B7897FF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205-C8C3-4A1C-A670-AEA64E86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11B-7A98-47D1-9179-07A4B5E0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A10-0472-48FE-8552-77A08F21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155-89C2-448D-ADE1-A5C079E9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988-462A-4587-96F3-394017ED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919-5C61-4B00-B72D-70926A48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EBD-F53C-4082-B6FA-958626EF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E22-3A6B-4C5E-A9AF-FFB282BB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0F6-2F74-490D-AA93-A90809F0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A9F-62F6-4AB2-8419-2957DD8C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4CC-1F72-48B8-A026-6571D667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823F-DF49-43DB-A52D-CB6632739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usmyth.com/aids/" TargetMode="External"/><Relationship Id="rId2" Type="http://schemas.openxmlformats.org/officeDocument/2006/relationships/hyperlink" Target="http://www.factcheck.org/" TargetMode="External"/><Relationship Id="rId3" Type="http://schemas.openxmlformats.org/officeDocument/2006/relationships/hyperlink" Target="http://www.justice.gov/" TargetMode="External"/><Relationship Id="rId4" Type="http://schemas.openxmlformats.org/officeDocument/2006/relationships/hyperlink" Target="http://www.demos.org/inequality/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searchnews.osu.edu/archive/bcaphysical.htm" TargetMode="External"/><Relationship Id="rId2" Type="http://schemas.openxmlformats.org/officeDocument/2006/relationships/hyperlink" Target="http://www.diet.com/" TargetMode="External"/><Relationship Id="rId3" Type="http://schemas.openxmlformats.org/officeDocument/2006/relationships/hyperlink" Target="http://www.peta.org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ampage?collId=rbc3&amp;fileName=rbc0001_2004pe76546page.db&amp;recNum=0" TargetMode="External"/><Relationship Id="rId2" Type="http://schemas.openxmlformats.org/officeDocument/2006/relationships/hyperlink" Target="http://www.hbci.com/~tgort/king.htm" TargetMode="External"/><Relationship Id="rId3" Type="http://schemas.openxmlformats.org/officeDocument/2006/relationships/hyperlink" Target="http://avalon.law.yale.edu/18th_century/declare.as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eypad.org/bunnies/index.html" TargetMode="External"/><Relationship Id="rId2" Type="http://schemas.openxmlformats.org/officeDocument/2006/relationships/hyperlink" Target="http://lsb.scu.edu/~mkevane/womten.ht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chive.org/web/web.ph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bci.com/~tgort/index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 Eval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ood stuff vs </a:t>
            </a: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Bad stu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History 2d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responsible for the 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there an auth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n I contact the author with an e-mail address or phone number provi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the author an authority in the subject? What are his credentials? Is he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vers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there a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onso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for the site?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pu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you may have to truncate back to home page to find the author or check for an </a:t>
            </a:r>
            <a:r>
              <a:rPr b="0" lang="en-CA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“about us”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tton (or something like that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You should look up the author in Goo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site on the Ne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ive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 i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e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something (to make mon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ersu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Is it free of bia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ed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 the page/site published or last upd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able to find this info. at top or bottom of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to truncate back to fin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ate current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 date is found, should you trust the si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re the links on the page appropriate for the su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they all work (are they up to date) or are they dead lin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o links to the page/site you are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using Google, search “link: type the UR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nformation alte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formation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imary sour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vailable via PD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formation summarized or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-typ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by author? Is i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putabl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it been alte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err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of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information give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efu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valuable, worth ha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info. Detailed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-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s been on the site in the past? What did it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ck the content of the site from months or years 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as it always been reliable? Has it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anged recently…for the wo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se “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y Back Machin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”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sn.ca (look at first p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portsnet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Ques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rs of many gre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 Penguin, HarperCollins, Bantam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a publisher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Answ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can publish anything to the Internet. We can all be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’s a good thing…that’s a bad th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you can find anything on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people can publish falsehoo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unreliabl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Your responsibili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sure that all the resources you use are reliable/reputabl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cluding web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critical about who is telling you what. To question. To think, think,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Ques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ow do you search for material on the Internet? What search tool do you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Answer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: probably 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Check this 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ites on “women aids fa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ite #1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ite #2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li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w plug in a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oogl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search for “women aids fac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ook at the h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cc33"/>
                </a:solidFill>
                <a:latin typeface="Arial"/>
              </a:rPr>
              <a:t>Google ain’t G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though Google is a good search engine, it does NOT sift through the Internet and provide only “good”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at job is you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to Evaluate Websites…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I know if a website is reliable or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’s not easy. Many websites are made to look really good, and they do foo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best you can using s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all of the following indicato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e 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it someone’s </a:t>
            </a:r>
            <a:r>
              <a:rPr b="0" lang="en-CA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sonal page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look for ~ or % or “users” or “member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co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commerci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gov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govern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network infra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org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organ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.edu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edu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s the domain appropriate for the cont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9:12:46Z</dcterms:created>
  <dc:creator>ICT</dc:creator>
  <dc:description/>
  <dc:language>en-US</dc:language>
  <cp:lastModifiedBy>ICT</cp:lastModifiedBy>
  <dcterms:modified xsi:type="dcterms:W3CDTF">2011-03-01T16:54:47Z</dcterms:modified>
  <cp:revision>48</cp:revision>
  <dc:subject/>
  <dc:title>Website Evaluations</dc:title>
</cp:coreProperties>
</file>